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937-6C43-45E3-8645-EA907EEC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9F8-F89B-4645-95D2-AD71603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09F-DFB9-485E-B16C-F906235F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738-CF4B-4EB5-A6D6-3BFC5F6B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D723-A155-4EF9-A300-BEF43B64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87DC-E17F-4250-9C9D-EB4CAFA8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F2A0-E7CD-4682-A462-ABE02604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0A2F-17C4-45C3-BE3D-289CB998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0D79-8C5B-417E-8345-AA353B32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A945-EC96-4D56-8572-999C8E8B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2A63-5BD0-4BB4-B1B0-7142503D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ED2-9DBA-4FFA-AFAD-48B64D0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EB71-11CD-4915-A34C-56DC124A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896E-A3F4-4C2C-887E-2A389764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4170-6DB8-4C50-AC85-349D6BE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EEC4-EA32-4305-B44E-36D62E96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289A-21BD-4A70-B827-E312973F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FA9-A3E1-4439-B16E-D1969E07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CE0-39D5-44A6-8730-38F67105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F04E-799B-4565-81AE-C1F789F9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892-45C4-4ECA-A767-8B05CC88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004-DCDE-402E-B498-5D36384E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1AC-C2EA-4071-882A-D85C056C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866-98C2-43AA-87E9-F3C83FD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1AB9-5BDE-4403-BE06-9DBA80A07AAD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D481-C7FF-4619-97DD-46585F1B2D10}" type="slidenum">
              <a:rPr b="0" lang="en-US" sz="1400" spc="-1" strike="noStrike">
                <a:solidFill>
                  <a:srgbClr val="ffff66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Verdana"/>
              </a:rPr>
              <a:t>The Geopolitics of Africa</a:t>
            </a:r>
            <a:endParaRPr b="1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hawn Power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artmouth Debate Institute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July 17th, 2007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Actor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United State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urope (Nordic Countries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outh Afric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frican Un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Japa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5438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US: President Bush and SA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Very serious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</a:rPr>
              <a:t>stuff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C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PEPFAR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GO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AFRICOM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ヒラギノ角ゴ Pro W3"/>
              </a:rPr>
              <a:t>_x0010_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ombined Joint Task Force-Horn of Afric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rans-Sahara Counterterrorism Initiative (TSCTI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EDFLAG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72200" y="1828800"/>
            <a:ext cx="25146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HIN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ffff66"/>
                </a:solidFill>
                <a:latin typeface="Verdana"/>
              </a:rPr>
              <a:t>An unprecedented need for resources is now driving China’s foreign policy”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362320"/>
            <a:ext cx="487692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Oil v.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Verdana"/>
                <a:ea typeface="MS Pゴシック"/>
              </a:rPr>
              <a:t>Genocid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Also interested in access to other natural resources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Copper, gold, aluminum, nickel, &amp; timber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Provides cover for corrupt regimes: 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Sudan, Ethiopia, Angola, Kenya &amp; Zimbabwe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867280" y="2971800"/>
            <a:ext cx="2870280" cy="1917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03160" y="5943600"/>
            <a:ext cx="73965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“</a:t>
            </a:r>
            <a:r>
              <a:rPr b="0" i="1" lang="en-US" sz="2400" spc="-1" strike="noStrike">
                <a:solidFill>
                  <a:srgbClr val="ffff66"/>
                </a:solidFill>
                <a:latin typeface="Verdana"/>
                <a:ea typeface="MS Pゴシック"/>
              </a:rPr>
              <a:t>Zimbabwe is all but owned by China”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487692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y China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800600" cy="4343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en as a fellow Developing country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No conditions on aid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-Africa Cooperation Forum (CACF)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rade, tourism, education, PKOS, &amp; military and medical training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708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hina and Suda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 gets 7% of its oil imports from Suda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$4 Billion invested in Suda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ignificant aid to the Sudanese military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44542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hina Explore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4197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Over $7 Billion invested in Nigeria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ncreased economic and military aid as wel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Exploration activities in Ethiopia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Over $2 billion in “soft loans” to Angola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Is competing with India, Malaysia, &amp; North and South Korea for access it Africa’s natural resources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gnificant investments in Zambia, DRC, Sierra Leone, and Kenya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3876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Geopolitical Consequences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’s investments are setting a precedent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Brazil, India and the Korea’s followed the “no strings attached” approach to aid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 can out-bid competitor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State-run industries where profits are irreleva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asier to join aid and investment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What advantages does the United States have?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South Afric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1/5 of its population in HIV positive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Highest rape rate in the world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Increasing influence through cooperation, business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867280" y="4724280"/>
            <a:ext cx="297180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African Unio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Established in 2001, 53 nation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Works to support democracy: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ogo, Mauritania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Resolve international conflict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udan, Somalia, Senega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ヒラギノ角ゴ Pro W3"/>
              </a:rPr>
              <a:t>_x0010_</a:t>
            </a: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Headquarters: Addis Ababa, Ethiopi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Annual operating budget: ?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at do you </a:t>
            </a:r>
            <a:r>
              <a:rPr b="1" i="1" lang="en-US" sz="4400" spc="-1" strike="noStrike">
                <a:solidFill>
                  <a:srgbClr val="ffff66"/>
                </a:solidFill>
                <a:latin typeface="Verdana"/>
              </a:rPr>
              <a:t>know</a:t>
            </a: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 about Africa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Blood Diamond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Lord of War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Black Hawk Down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Tears of the Sun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Verdana"/>
              </a:rPr>
              <a:t>Hotel Rwand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ountry Map of Africa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  <a:ea typeface="ＭＳ Ｐゴシック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143000"/>
            <a:ext cx="479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Why Africa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Or, </a:t>
            </a:r>
            <a:r>
              <a:rPr b="0" i="1" lang="en-US" sz="3200" spc="-1" strike="noStrike">
                <a:solidFill>
                  <a:srgbClr val="ffff66"/>
                </a:solidFill>
                <a:latin typeface="Verdana"/>
              </a:rPr>
              <a:t>what are U.S. security interests in Sub-Sahara Africa (SSA)?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nergy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errorism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HIV/Aids and disease preven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Ethnic conflicts, genocide prevention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Democratic governance, civil society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Energy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15% of US oil imports come from SS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ould double in a decade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Lots of competition: 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ヒラギノ角ゴ Pro W3"/>
              </a:rPr>
              <a:t>_x0010_</a:t>
            </a: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hina, India, Malaysia, North and South Korea, Brazil and Europe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5880" y="2362320"/>
            <a:ext cx="279396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Threats to African Energy Productio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riminal network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errorism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Disease, HIV/AID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Political and social unres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2362320"/>
            <a:ext cx="45720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Terrorism?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25% of Iraqi insurgents originated from Africa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Terrorist and insurgent groups are appealing to Africa’s 300 million (and growing) Muslims for support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outh Africa and Nigeria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errorist affiliation is closely associated with economic opportunities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Conflict Resolution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Conflicts are a breeding ground for: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international criminal activity, terrorist infiltration, &amp; the spread of disease.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rious consequences on: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Environment, women’s (and human) rights issues &amp; the economy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Wars have caused more deaths in Africa than disease and famine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Rwanda, DRC, Sudan, Sierra Leon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IDP and Refugee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Verdana"/>
              </a:rPr>
              <a:t>Democratic Governance</a:t>
            </a:r>
            <a:endParaRPr b="1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ajor challenges in: 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Nigeria, Sudan, Ethiopia, Uganda &amp; Zimbabwe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More than 2/3 of African nations have undergone elections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Sort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AU has agreed to not recognize governments that come to power via unconstitutional means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419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8:50:51Z</dcterms:created>
  <dc:creator>Shawn Powers</dc:creator>
  <dc:description/>
  <dc:language>en-US</dc:language>
  <cp:lastModifiedBy>Shawn Powers</cp:lastModifiedBy>
  <dcterms:modified xsi:type="dcterms:W3CDTF">2007-07-17T19:53:35Z</dcterms:modified>
  <cp:revision>84</cp:revision>
  <dc:subject/>
  <dc:title>The Geopolitics of Africa</dc:title>
</cp:coreProperties>
</file>